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91189"/>
        <c:axId val="55674808"/>
      </c:barChart>
      <c:catAx>
        <c:axId val="54991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74808"/>
        <c:crosses val="autoZero"/>
        <c:auto val="1"/>
        <c:lblAlgn val="ctr"/>
        <c:lblOffset val="100"/>
        <c:noMultiLvlLbl val="0"/>
      </c:catAx>
      <c:valAx>
        <c:axId val="55674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91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0C6-9A44-4048-8DE5-14E61B4D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BFC-598B-449A-9EA3-0BDC26F0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540-2D09-45C9-BDC8-E2CFBC65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ABE-88BA-4E60-807E-0895783A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EC0-87E6-4D20-812A-1B93C9F5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7998-B104-4DB2-BD9E-C07009E7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DED-6DA3-4A22-872D-D8BC62AF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6A2B-F442-4F3F-9B06-2CCAF27D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75B4-C67D-4681-A839-7C51C3A6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9B9-2BE8-4025-89A0-F961DC1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DCB-2163-4115-AEA9-D7220B4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0A2-8DE1-43C7-9E64-CD77AA8C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280AA-5654-45AD-9DFE-1DA4696BB1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